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fastca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C9C-714E-4F5D-BA54-EFBFFC6F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8C3-E303-4409-A2FB-4033138C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01B-02B5-4790-8D2A-E6C4C2CA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45F-72B3-42C0-89A7-956360DA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C6A-6F6C-41E3-A61F-2B95267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5A8-ECFF-48F0-8A63-505FBC5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0A3-B61D-45DF-A106-DF0C11B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C12-4123-4623-A9F4-AE4E677A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549-0D7F-43D7-ABD7-9AED507D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38C-E4D6-458A-8D2F-14DBA35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BFB-A488-417B-A79B-EB17897A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B6E-48C8-4003-98F6-D77EFDD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ACD-EB5F-461B-A79E-2DA7446A4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zipdn102.wav"/><Relationship Id="rId17" Type="http://schemas.openxmlformats.org/officeDocument/2006/relationships/audio" Target="../media/hzipup01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zipdn10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zipup01.wav"/><Relationship Id="rId12" Type="http://schemas.openxmlformats.org/officeDocument/2006/relationships/audio" Target="../media/zipdn10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3960" y="1333440"/>
                <a:ext cx="3186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389480" y="1308240"/>
                <a:ext cx="12142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172280" y="1328760"/>
                <a:ext cx="121464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276880" y="1382760"/>
                <a:ext cx="2286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083120" y="132084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 flipV="1">
            <a:off x="4437000" y="1488600"/>
            <a:ext cx="533520" cy="489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716440" y="2465280"/>
                <a:ext cx="360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5197320" y="2446200"/>
            <a:ext cx="675000" cy="462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106880" y="2554200"/>
                <a:ext cx="36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4383000" y="2466720"/>
            <a:ext cx="60984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821200" y="114948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 flipV="1">
            <a:off x="5272200" y="153684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613480" y="3909960"/>
                <a:ext cx="102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762600" y="3375000"/>
                <a:ext cx="7732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721560" y="4232160"/>
                <a:ext cx="793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5440" y="1333440"/>
                <a:ext cx="34718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04960" y="3027240"/>
                <a:ext cx="768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17840" y="3057480"/>
                <a:ext cx="734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17560" y="36417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09880" y="1773360"/>
            <a:ext cx="350640" cy="1854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46440" y="3592440"/>
                <a:ext cx="612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38360" y="3608280"/>
                <a:ext cx="1062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004760" y="3530520"/>
                <a:ext cx="121464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24160" y="3506760"/>
                <a:ext cx="121464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14240" y="3546360"/>
                <a:ext cx="360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 flipV="1">
            <a:off x="1068480" y="371484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47920" y="469116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 flipV="1">
            <a:off x="1828800" y="4671720"/>
            <a:ext cx="674640" cy="461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35000" y="5859360"/>
                <a:ext cx="1065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735280" y="4718160"/>
                <a:ext cx="361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3011400" y="4630320"/>
            <a:ext cx="60984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383000" y="3313080"/>
                <a:ext cx="49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 flipV="1">
            <a:off x="3900600" y="370044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112920" y="5308560"/>
                <a:ext cx="695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24240" y="6186600"/>
                <a:ext cx="33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89440" y="5789520"/>
                <a:ext cx="1000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15800" y="1349280"/>
                <a:ext cx="39625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830160" y="2948040"/>
                <a:ext cx="8445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532320" y="2948040"/>
                <a:ext cx="8078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984240" y="352584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81520" y="1646280"/>
            <a:ext cx="350640" cy="18540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624040" y="3502080"/>
                <a:ext cx="939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95440" y="3517920"/>
                <a:ext cx="10620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2560" y="3492360"/>
                <a:ext cx="121464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60800" y="3506760"/>
                <a:ext cx="12142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62320" y="4616280"/>
                <a:ext cx="36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2638440" y="4528800"/>
            <a:ext cx="60948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449600" y="331308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3836880" y="370044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66920" y="349740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620800" y="36655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210200" y="4705200"/>
                <a:ext cx="3603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3691080" y="4686120"/>
            <a:ext cx="674640" cy="461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44600" y="5830920"/>
                <a:ext cx="102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67000" y="5308560"/>
                <a:ext cx="695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54120" y="6186600"/>
                <a:ext cx="46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0760" y="1333440"/>
                <a:ext cx="33908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93800" y="1290600"/>
                <a:ext cx="148428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195720" y="1373040"/>
                <a:ext cx="1484280" cy="17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9280" y="1292400"/>
                <a:ext cx="49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992160" y="14605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71600" y="243684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1752480" y="2417400"/>
            <a:ext cx="674640" cy="461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60680" y="3894120"/>
                <a:ext cx="1065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35280" y="2492280"/>
                <a:ext cx="36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V="1">
            <a:off x="3011400" y="2404800"/>
            <a:ext cx="609840" cy="476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24480" y="1239840"/>
                <a:ext cx="36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 flipV="1">
            <a:off x="3944880" y="1627200"/>
            <a:ext cx="573120" cy="45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63720" y="3357720"/>
                <a:ext cx="695160" cy="15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075040" y="4235400"/>
                <a:ext cx="33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73160" y="5310360"/>
                <a:ext cx="15415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3, 9 – 7 #1-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84 #15-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8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4T14:34:39Z</dcterms:modified>
  <cp:revision>96</cp:revision>
  <dc:subject/>
  <dc:title>Slide 1</dc:title>
</cp:coreProperties>
</file>